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E7CE-DDDC-4FF4-8773-112E9A05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FB6A-6413-44A8-B104-08F09B3E5F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396-63E8-45A2-AE2A-F84511C4BF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CC06-978D-40F5-BDDD-4289FC2CBFA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567-71AC-461E-A524-63B8FDA54A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86A8-AE5F-416D-9801-D2819326066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68C-39AD-46BB-9A7C-FA30BE4A2A8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251-E834-4CFB-84C5-FFF44ECE77D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5A6-EE62-4E2F-AC6D-6879AF958B5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69C-0E5A-4D5B-B916-9F8F347F21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621C-7167-430A-82FE-F531237F36B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018-CDEC-4F82-87E6-D402813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1A7-6EEE-492A-8C6C-16AD839E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1E3-4325-4F90-80FB-DCB9A2B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9A8-85F3-4147-A9B0-6A459D25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35BE-C7EF-45C3-A84D-0322F8D3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9AAF-937F-4257-942A-63D8CD5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5F3-1878-444B-8382-55F7080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673-C9DD-4164-B224-299409AC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7BA5-7E64-4F5E-93DB-F4DF6E97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F49A-6B51-4337-B906-F5778843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2EF0-1885-4513-81E7-F308421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BC7-028E-484A-82E3-4706A813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94C-5976-4CA8-828D-EF9CFB3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C7F-034E-418F-80C9-926370D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7365-153C-4611-920D-1D9DFB9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ACA1-AFB7-478F-910B-016C9A57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D317-DD8A-42F2-B8D9-4B01F1B7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779-AD80-4927-BB72-D0411A5D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626-FAFC-47CA-8A73-A99F2BE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5E6-5AC9-4BAE-ADCD-AB3E2D6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1EF-79BE-4ABA-B9B1-29E14E1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F2D-8E6F-4947-9F68-1972041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140-D657-4ABE-8680-8B705604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D09-410C-4691-B058-4F3B815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008-F1E1-403B-B27B-728F75A2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97D-5191-47D1-9885-CE630AB4E97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upporting Comprehension of Narrative Texts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swering Questions: </a:t>
            </a: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 spend all their time looking for answers that are not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ight there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to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</a:t>
            </a:r>
            <a:r>
              <a:rPr b="0" i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 rot="16200000">
            <a:off x="-422280" y="3942720"/>
            <a:ext cx="1863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09480" y="1992240"/>
            <a:ext cx="16002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During &amp; 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6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Questioning the Author (QtA)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Often teacher-led discussions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ine author’s background, perspective, &amp; craf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wit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road, open-ended ques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’s going on here? What is the author say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y do you think the author wrote this part here</a:t>
            </a: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…?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ster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How does that connect with your life?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other tex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arify confusions/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oes that make sens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you get that idea? What did the author leave 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clude/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ve you learned from the autho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questions would you like to ask the author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hallenges with Talking About Books in Small Group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some challenge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do NOT participat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OVER participat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don’t work well with other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are distracted by friend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lack important knowledge needed to talk about those thing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have different cultural practices and expectation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iscussion Web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strategy for ensuring one student doesn’t dominate the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bines think-pair-share with critical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individuall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ideas with a partn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work toward consensus with another set of partner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pokesperson of 4 with whole gro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3" descr="Screen Shot 2016-11-21 at 8.57.18 PM.png"/>
          <p:cNvPicPr/>
          <p:nvPr/>
        </p:nvPicPr>
        <p:blipFill>
          <a:blip r:embed="rId1"/>
          <a:stretch/>
        </p:blipFill>
        <p:spPr>
          <a:xfrm>
            <a:off x="12600" y="182880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7" name="Picture 3" descr="Screen Shot 2016-11-21 at 9.04.45 PM.png"/>
          <p:cNvPicPr/>
          <p:nvPr/>
        </p:nvPicPr>
        <p:blipFill>
          <a:blip r:embed="rId1"/>
          <a:stretch/>
        </p:blipFill>
        <p:spPr>
          <a:xfrm>
            <a:off x="1143000" y="2133720"/>
            <a:ext cx="6908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e Up Loose Ends and Review/Answer Question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About Upcoming Assignment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view HOW to teach reading: explicit strategy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instruction and gradual release of responsibility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Discuss/apply methods for using questioning to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prom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iscussion Web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Literature Circ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. Should Hollis have run away with Josie?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. Which family do you think Hollis should live with? Which family would you choose to live with? Wh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 for Next Class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sider instructional routines that foster talking and discussion to build understanding AFTER reading </a:t>
            </a:r>
            <a:br>
              <a:rPr sz="3000"/>
            </a:b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 people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and a discussion web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Donut 3"/>
          <p:cNvSpPr/>
          <p:nvPr/>
        </p:nvSpPr>
        <p:spPr>
          <a:xfrm>
            <a:off x="685800" y="304812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49" name="Straight Arrow Connector 10"/>
          <p:cNvCxnSpPr>
            <a:stCxn id="144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0" name="Straight Arrow Connector 12"/>
          <p:cNvCxnSpPr>
            <a:stCxn id="145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1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2" name="Straight Arrow Connector 16"/>
          <p:cNvCxnSpPr>
            <a:endCxn id="148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53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Donut 20"/>
          <p:cNvSpPr/>
          <p:nvPr/>
        </p:nvSpPr>
        <p:spPr>
          <a:xfrm>
            <a:off x="5181480" y="297180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61" name="Straight Arrow Connector 26"/>
            <p:cNvCxnSpPr>
              <a:stCxn id="155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2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3" name="Straight Arrow Connector 28"/>
            <p:cNvCxnSpPr>
              <a:endCxn id="158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4" name="Straight Arrow Connector 29"/>
            <p:cNvCxnSpPr>
              <a:endCxn id="155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65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66" name="Straight Arrow Connector 36"/>
            <p:cNvCxnSpPr>
              <a:stCxn id="156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7" name="Straight Arrow Connector 39"/>
            <p:cNvCxnSpPr>
              <a:endCxn id="159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8" name="Straight Arrow Connector 43"/>
            <p:cNvCxnSpPr>
              <a:endCxn id="157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9" name="Straight Arrow Connector 46"/>
            <p:cNvCxnSpPr>
              <a:endCxn id="156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70" name="Straight Arrow Connector 53"/>
          <p:cNvCxnSpPr>
            <a:stCxn id="157" idx="0"/>
            <a:endCxn id="155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71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72" name="Straight Arrow Connector 50"/>
            <p:cNvCxnSpPr>
              <a:endCxn id="159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73" name="Straight Arrow Connector 56"/>
            <p:cNvCxnSpPr>
              <a:endCxn id="155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74" name="Straight Arrow Connector 58"/>
            <p:cNvCxnSpPr>
              <a:stCxn id="156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75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7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0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custGeom>
            <a:avLst/>
            <a:gdLst/>
            <a:ahLst/>
            <a:rect l="l" t="t" r="r" b="b"/>
            <a:pathLst>
              <a:path w="1600200" h="1371600">
                <a:moveTo>
                  <a:pt x="2" y="523903"/>
                </a:moveTo>
                <a:lnTo>
                  <a:pt x="611225" y="523907"/>
                </a:lnTo>
                <a:lnTo>
                  <a:pt x="800100" y="0"/>
                </a:lnTo>
                <a:lnTo>
                  <a:pt x="988975" y="523907"/>
                </a:lnTo>
                <a:lnTo>
                  <a:pt x="1600198" y="523903"/>
                </a:lnTo>
                <a:lnTo>
                  <a:pt x="1105706" y="847692"/>
                </a:lnTo>
                <a:lnTo>
                  <a:pt x="1294588" y="1371597"/>
                </a:lnTo>
                <a:lnTo>
                  <a:pt x="800100" y="1047802"/>
                </a:lnTo>
                <a:lnTo>
                  <a:pt x="305612" y="1371597"/>
                </a:lnTo>
                <a:lnTo>
                  <a:pt x="494494" y="847692"/>
                </a:lnTo>
                <a:lnTo>
                  <a:pt x="2" y="523903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assignments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84" name="Picture 2" descr="Screen Shot 2017-11-20 at 3.50.30 PM.png"/>
          <p:cNvPicPr/>
          <p:nvPr/>
        </p:nvPicPr>
        <p:blipFill>
          <a:blip r:embed="rId1"/>
          <a:stretch/>
        </p:blipFill>
        <p:spPr>
          <a:xfrm>
            <a:off x="228600" y="1828800"/>
            <a:ext cx="86360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 Nov. 30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00-11:10 Overview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10-11:30 Literature Circles (activity shee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30-12:00 Discussion Web Activit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:00-12:10 Share ou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:10-12:15 Exit Slip and Homework Reminder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Remember the Goal of Your Literature Circle Discuss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Donut 20"/>
          <p:cNvSpPr/>
          <p:nvPr/>
        </p:nvSpPr>
        <p:spPr>
          <a:xfrm>
            <a:off x="4876920" y="2971800"/>
            <a:ext cx="304776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739080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738828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594288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495252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563832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94" name="Group 35"/>
          <p:cNvGrpSpPr/>
          <p:nvPr/>
        </p:nvGrpSpPr>
        <p:grpSpPr>
          <a:xfrm>
            <a:off x="5175360" y="3876480"/>
            <a:ext cx="2249640" cy="1926360"/>
            <a:chOff x="5175360" y="3876480"/>
            <a:chExt cx="2249640" cy="1926360"/>
          </a:xfrm>
        </p:grpSpPr>
        <p:cxnSp>
          <p:nvCxnSpPr>
            <p:cNvPr id="195" name="Straight Arrow Connector 26"/>
            <p:cNvCxnSpPr>
              <a:stCxn id="189" idx="2"/>
            </p:cNvCxnSpPr>
            <p:nvPr/>
          </p:nvCxnSpPr>
          <p:spPr>
            <a:xfrm flipH="1">
              <a:off x="6241320" y="3876840"/>
              <a:ext cx="118332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6" name="Straight Arrow Connector 27"/>
            <p:cNvCxnSpPr/>
            <p:nvPr/>
          </p:nvCxnSpPr>
          <p:spPr>
            <a:xfrm flipH="1">
              <a:off x="632052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7" name="Straight Arrow Connector 28"/>
            <p:cNvCxnSpPr>
              <a:endCxn id="192" idx="3"/>
            </p:cNvCxnSpPr>
            <p:nvPr/>
          </p:nvCxnSpPr>
          <p:spPr>
            <a:xfrm flipH="1" flipV="1">
              <a:off x="517824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8" name="Straight Arrow Connector 29"/>
            <p:cNvCxnSpPr>
              <a:endCxn id="189" idx="2"/>
            </p:cNvCxnSpPr>
            <p:nvPr/>
          </p:nvCxnSpPr>
          <p:spPr>
            <a:xfrm flipV="1">
              <a:off x="5175360" y="3876480"/>
              <a:ext cx="225000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99" name="Group 49"/>
          <p:cNvGrpSpPr/>
          <p:nvPr/>
        </p:nvGrpSpPr>
        <p:grpSpPr>
          <a:xfrm>
            <a:off x="5251320" y="3571200"/>
            <a:ext cx="1981800" cy="2000880"/>
            <a:chOff x="5251320" y="3571200"/>
            <a:chExt cx="1981800" cy="2000880"/>
          </a:xfrm>
        </p:grpSpPr>
        <p:cxnSp>
          <p:nvCxnSpPr>
            <p:cNvPr id="200" name="Straight Arrow Connector 36"/>
            <p:cNvCxnSpPr>
              <a:stCxn id="190" idx="1"/>
            </p:cNvCxnSpPr>
            <p:nvPr/>
          </p:nvCxnSpPr>
          <p:spPr>
            <a:xfrm flipH="1" flipV="1">
              <a:off x="608904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39"/>
            <p:cNvCxnSpPr>
              <a:endCxn id="193" idx="2"/>
            </p:cNvCxnSpPr>
            <p:nvPr/>
          </p:nvCxnSpPr>
          <p:spPr>
            <a:xfrm flipH="1" flipV="1">
              <a:off x="567144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43"/>
            <p:cNvCxnSpPr>
              <a:endCxn id="191" idx="0"/>
            </p:cNvCxnSpPr>
            <p:nvPr/>
          </p:nvCxnSpPr>
          <p:spPr>
            <a:xfrm>
              <a:off x="57074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46"/>
            <p:cNvCxnSpPr>
              <a:endCxn id="190" idx="1"/>
            </p:cNvCxnSpPr>
            <p:nvPr/>
          </p:nvCxnSpPr>
          <p:spPr>
            <a:xfrm>
              <a:off x="5251320" y="4724280"/>
              <a:ext cx="198216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204" name="Straight Arrow Connector 53"/>
          <p:cNvCxnSpPr>
            <a:stCxn id="191" idx="0"/>
            <a:endCxn id="189" idx="1"/>
          </p:cNvCxnSpPr>
          <p:nvPr/>
        </p:nvCxnSpPr>
        <p:spPr>
          <a:xfrm flipV="1">
            <a:off x="613260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205" name="Group 60"/>
          <p:cNvGrpSpPr/>
          <p:nvPr/>
        </p:nvGrpSpPr>
        <p:grpSpPr>
          <a:xfrm>
            <a:off x="5099040" y="3571560"/>
            <a:ext cx="2323800" cy="1542960"/>
            <a:chOff x="5099040" y="3571560"/>
            <a:chExt cx="2323800" cy="1542960"/>
          </a:xfrm>
        </p:grpSpPr>
        <p:cxnSp>
          <p:nvCxnSpPr>
            <p:cNvPr id="206" name="Straight Arrow Connector 50"/>
            <p:cNvCxnSpPr>
              <a:endCxn id="193" idx="2"/>
            </p:cNvCxnSpPr>
            <p:nvPr/>
          </p:nvCxnSpPr>
          <p:spPr>
            <a:xfrm flipV="1">
              <a:off x="509904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7" name="Straight Arrow Connector 56"/>
            <p:cNvCxnSpPr>
              <a:endCxn id="189" idx="1"/>
            </p:cNvCxnSpPr>
            <p:nvPr/>
          </p:nvCxnSpPr>
          <p:spPr>
            <a:xfrm>
              <a:off x="578484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58"/>
            <p:cNvCxnSpPr>
              <a:stCxn id="190" idx="0"/>
            </p:cNvCxnSpPr>
            <p:nvPr/>
          </p:nvCxnSpPr>
          <p:spPr>
            <a:xfrm flipH="1" flipV="1">
              <a:off x="582372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209" name="TextBox 61"/>
          <p:cNvSpPr/>
          <p:nvPr/>
        </p:nvSpPr>
        <p:spPr>
          <a:xfrm>
            <a:off x="533520" y="1981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3276720"/>
            <a:ext cx="4648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97080" y="1981080"/>
            <a:ext cx="8067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reate a discussion question; consider both sides (2 people each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nd then share other sides); come to consensus and write conclusion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13" name="Picture 2" descr="Screen Shot 2017-11-20 at 5.33.02 PM.png"/>
          <p:cNvPicPr/>
          <p:nvPr/>
        </p:nvPicPr>
        <p:blipFill>
          <a:blip r:embed="rId1"/>
          <a:stretch/>
        </p:blipFill>
        <p:spPr>
          <a:xfrm>
            <a:off x="1219320" y="2746440"/>
            <a:ext cx="63244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Wrapping up the HOWS of teaching</a:t>
            </a:r>
            <a:r>
              <a:rPr b="1" lang="is-IS" sz="3200" spc="-1" strike="noStrike">
                <a:solidFill>
                  <a:srgbClr val="320000"/>
                </a:solidFill>
                <a:latin typeface="Arial"/>
              </a:rPr>
              <a:t>…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Where does Explicit Teaching fit in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what does it look like?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how do students become more independent? 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 Exit Slip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the discussion web activity:  Write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wo key insigh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gained about discussion-based reading instruction that can inform your teach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member to study for Quiz (next Tuesday) – use Google Docs questions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28600" y="1905120"/>
            <a:ext cx="86868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1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So, the whole process of explicit teaching and gradual release?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by participating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ed/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; build skills in fluency and vocabula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Clarify Assignm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llis Woods Guided Reading Plan (due Tues Nov. 28) – Collect hard cop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v. 28: Amy Correia and ELL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ture Circle Reading &amp; Activity, and 2 Column Journal &amp; Quiz Questions (due 11/30) – see wiki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Google Docs to Study for Quiz (on 12/1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Text Assignment (due 12/7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f you revised an assignment and haven’t had it returned, see me after class to check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Guided Reading Plan for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tory elements as a structur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o help students recall, attend to, and discussion of key point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solutio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heme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racteristics of Quality Realistic F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7-11-21T02:44:10Z</dcterms:modified>
  <cp:revision>494</cp:revision>
  <dc:subject/>
  <dc:title>Metacognitive Strategy Instruction to Enhance Reading Comprehension</dc:title>
</cp:coreProperties>
</file>